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51C-1BCA-4188-9CE0-8B0FDD9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A85-9FEC-402C-BE11-72E5CCCB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710-F835-4A88-AE20-6B6A4F1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2CC-DF85-42A0-BC85-3F4D89DE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A9-66D6-47F8-9B1D-CCCB1B2B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4C3-1900-4850-947A-AA80F6C0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4F-1BA7-4875-B0DE-F8283CBD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88B-6004-4538-B7C0-D7E975B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DD5-18D7-40D6-9BED-65E606E4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897-39AA-40EE-BF99-D7027FC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17E-DB64-4512-A27B-BF3A8E5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B55-A6E5-4064-B70B-9B4075F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2557-84AD-4743-9EC9-04A9BB6403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21102" t="4722" r="19996" b="9639"/>
          <a:stretch/>
        </p:blipFill>
        <p:spPr>
          <a:xfrm>
            <a:off x="5513400" y="7719840"/>
            <a:ext cx="1152360" cy="947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89000" y="3564000"/>
            <a:ext cx="5327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3399"/>
                </a:solidFill>
                <a:latin typeface="Bodoni MT Black"/>
              </a:rPr>
              <a:t>INFORME DE SEGUIMIENTO Y CI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3399"/>
                </a:solidFill>
                <a:latin typeface="Bodoni MT Black"/>
              </a:rPr>
              <a:t>POA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5000" y="611280"/>
            <a:ext cx="504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3399"/>
                </a:solidFill>
                <a:latin typeface="Bodoni MT Black"/>
              </a:rPr>
              <a:t>Ministerio de Comunicaciones, Infraestructura y Vivienda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39120" y="70930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3399"/>
                </a:solidFill>
                <a:latin typeface="Bodoni MT Black"/>
              </a:rPr>
              <a:t>Guatemala, Enero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ANd9GcQWEM9ugiaJihgJDcKA_4-yjKI47ZkhSL9lLiLb1Q1iwy1ulw0DBg&amp;t=1"/>
          <p:cNvPicPr/>
          <p:nvPr/>
        </p:nvPicPr>
        <p:blipFill>
          <a:blip r:embed="rId2"/>
          <a:stretch/>
        </p:blipFill>
        <p:spPr>
          <a:xfrm>
            <a:off x="5516640" y="971640"/>
            <a:ext cx="1341360" cy="89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383011845_3bd4abcf44"/>
          <p:cNvPicPr/>
          <p:nvPr/>
        </p:nvPicPr>
        <p:blipFill>
          <a:blip r:embed="rId3"/>
          <a:stretch/>
        </p:blipFill>
        <p:spPr>
          <a:xfrm>
            <a:off x="5516640" y="0"/>
            <a:ext cx="1341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ello-Jose-Ernesto-Monzon-2010"/>
          <p:cNvPicPr/>
          <p:nvPr/>
        </p:nvPicPr>
        <p:blipFill>
          <a:blip r:embed="rId4"/>
          <a:srcRect l="4955" t="0" r="14994" b="0"/>
          <a:stretch/>
        </p:blipFill>
        <p:spPr>
          <a:xfrm>
            <a:off x="5516640" y="1835280"/>
            <a:ext cx="1341360" cy="125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161960_149213895105856_5215182_n"/>
          <p:cNvPicPr/>
          <p:nvPr/>
        </p:nvPicPr>
        <p:blipFill>
          <a:blip r:embed="rId5"/>
          <a:srcRect l="23433" t="0" r="11669" b="0"/>
          <a:stretch/>
        </p:blipFill>
        <p:spPr>
          <a:xfrm>
            <a:off x="5516640" y="5994360"/>
            <a:ext cx="1341360" cy="137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TW77N9HwOU5y3dRWnLAVCLzweW9kLjEoKARsrcQ-BsYkt2jxoTIA&amp;t=1"/>
          <p:cNvPicPr/>
          <p:nvPr/>
        </p:nvPicPr>
        <p:blipFill>
          <a:blip r:embed="rId6"/>
          <a:stretch/>
        </p:blipFill>
        <p:spPr>
          <a:xfrm>
            <a:off x="5516640" y="3059280"/>
            <a:ext cx="1341360" cy="8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25524506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516640" y="3924360"/>
            <a:ext cx="134136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R_99_A_2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5516640" y="4932360"/>
            <a:ext cx="1341360" cy="104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IV (2)"/>
          <p:cNvPicPr/>
          <p:nvPr/>
        </p:nvPicPr>
        <p:blipFill>
          <a:blip r:embed="rId9"/>
          <a:srcRect l="0" t="0" r="0" b="17869"/>
          <a:stretch/>
        </p:blipFill>
        <p:spPr>
          <a:xfrm>
            <a:off x="344520" y="7624800"/>
            <a:ext cx="1440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52:57Z</dcterms:created>
  <dc:creator>LMENDOZA</dc:creator>
  <dc:description/>
  <dc:language>en-US</dc:language>
  <cp:lastModifiedBy>Luz Maria Urcuyo Mendoza</cp:lastModifiedBy>
  <dcterms:modified xsi:type="dcterms:W3CDTF">2015-01-28T16:46:44Z</dcterms:modified>
  <cp:revision>7</cp:revision>
  <dc:subject/>
  <dc:title>Diapositiva 1</dc:title>
</cp:coreProperties>
</file>